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587C2-B5C9-4767-97C1-480FB3D41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1BA33-5325-440E-8877-A58D09EA9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4BCAA-CA95-41B4-BF99-A09C911F7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C4047-8305-4EF3-9FCD-996CAB341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C3C81-12D9-40C2-996C-BB8C2C9DD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C1B4C-30B7-4AB7-B6D5-88A8E6044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B9AF2-A137-46D1-93B7-8A5AE5B26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D7CB6-587A-4089-8477-7BC34E588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0D242-AD96-4A47-BDF9-D45E0E2DE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C787-E788-49CD-BCB5-408846096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AB46-E2EE-42C7-B5EB-A598A13CC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4B272-3C76-48A7-A41E-A65827F7F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320B-4FFE-4E5A-A7F3-3A399586D12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YEAR 12 IT APPLICATIO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R RO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67000"/>
          </a:bodyPr>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1. As a basic understanding, a network is two or more computers that are connected so they can exchange information and share resources.</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2. they can almost instantly see changes made by others and respond to them in </a:t>
            </a:r>
            <a:r>
              <a:rPr b="1" lang="en-AU" sz="3200" spc="-1" strike="noStrike">
                <a:solidFill>
                  <a:srgbClr val="000000"/>
                </a:solidFill>
                <a:latin typeface="Calibri"/>
              </a:rPr>
              <a:t>real time.</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  </a:t>
            </a:r>
            <a:r>
              <a:rPr b="0" lang="en-AU" sz="3200" spc="-1" strike="noStrike">
                <a:solidFill>
                  <a:srgbClr val="000000"/>
                </a:solidFill>
                <a:latin typeface="Calibri"/>
              </a:rPr>
              <a:t>cost savings, equipment savings, time saving, have more access to share resources</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4. Networks save money because a single resource can be shared between many users.</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5.  Files</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6. can reduce costs for an organisation and improve the accuracy of their data processing.</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7.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DA0F-24B7-40ED-9092-B28F2B5F567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Text Box 2"/>
          <p:cNvSpPr/>
          <p:nvPr/>
        </p:nvSpPr>
        <p:spPr>
          <a:xfrm>
            <a:off x="468360" y="404640"/>
            <a:ext cx="772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hat is a network – should I panic?</a:t>
            </a:r>
            <a:endParaRPr b="0" lang="en-US" sz="3200" spc="-1" strike="noStrike">
              <a:solidFill>
                <a:srgbClr val="000000"/>
              </a:solidFill>
              <a:latin typeface="Arial"/>
            </a:endParaRPr>
          </a:p>
        </p:txBody>
      </p:sp>
      <p:sp>
        <p:nvSpPr>
          <p:cNvPr id="45" name="Text Box 3"/>
          <p:cNvSpPr/>
          <p:nvPr/>
        </p:nvSpPr>
        <p:spPr>
          <a:xfrm>
            <a:off x="900000" y="3789360"/>
            <a:ext cx="669636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s a basic understanding, a network is two or more computers that are connected so they can exchange information and share resourc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Tahoma"/>
              </a:rPr>
              <a:t>Networks are an important part of modern information systems. A network connection device is built into nearly every modern computing device.</a:t>
            </a:r>
            <a:endParaRPr b="0" lang="en-US" sz="2000" spc="-1" strike="noStrike">
              <a:solidFill>
                <a:srgbClr val="000000"/>
              </a:solidFill>
              <a:latin typeface="Arial"/>
            </a:endParaRPr>
          </a:p>
        </p:txBody>
      </p:sp>
      <p:pic>
        <p:nvPicPr>
          <p:cNvPr id="46" name="Picture 5" descr="NETWORK"/>
          <p:cNvPicPr/>
          <p:nvPr/>
        </p:nvPicPr>
        <p:blipFill>
          <a:blip r:embed="rId1"/>
          <a:stretch/>
        </p:blipFill>
        <p:spPr>
          <a:xfrm>
            <a:off x="684360" y="1197000"/>
            <a:ext cx="7343640" cy="25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s</a:t>
            </a:r>
            <a:endParaRPr b="0" lang="en-US" sz="4400" spc="-1" strike="noStrike">
              <a:solidFill>
                <a:srgbClr val="000000"/>
              </a:solidFill>
              <a:latin typeface="Calibri"/>
            </a:endParaRPr>
          </a:p>
        </p:txBody>
      </p:sp>
      <p:sp>
        <p:nvSpPr>
          <p:cNvPr id="48" name=""/>
          <p:cNvSpPr txBox="1"/>
          <p:nvPr/>
        </p:nvSpPr>
        <p:spPr>
          <a:xfrm>
            <a:off x="456840" y="1600200"/>
            <a:ext cx="821844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A network connects computers together so that they can share data, information and resources such as printers, plotters, Internet access, servers, modems and scanne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A network connection allows your computer to communicate with other devices – to send messages, instructions and files, and to receive messages and fil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alibri"/>
              </a:rPr>
              <a:t>HOW ARE NETWORKS USED WITHIN THE SCHOOL ENVIRONMENT AND HOW COULD YOU USE A NETWORK WITHIN YOUR OWN HOM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7375-6B3F-4410-BB1C-E2FDB64733B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 Box 2"/>
          <p:cNvSpPr/>
          <p:nvPr/>
        </p:nvSpPr>
        <p:spPr>
          <a:xfrm>
            <a:off x="1476360" y="189000"/>
            <a:ext cx="6095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network?</a:t>
            </a:r>
            <a:endParaRPr b="0" lang="en-US" sz="4000" spc="-1" strike="noStrike">
              <a:solidFill>
                <a:srgbClr val="000000"/>
              </a:solidFill>
              <a:latin typeface="Arial"/>
            </a:endParaRPr>
          </a:p>
        </p:txBody>
      </p:sp>
      <p:sp>
        <p:nvSpPr>
          <p:cNvPr id="51" name="Text Box 3"/>
          <p:cNvSpPr/>
          <p:nvPr/>
        </p:nvSpPr>
        <p:spPr>
          <a:xfrm>
            <a:off x="324000" y="907920"/>
            <a:ext cx="8607240" cy="45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rPr>
              <a:t>Efficiency</a:t>
            </a:r>
            <a:r>
              <a:rPr b="0" lang="en-AU" sz="2800" spc="-1" strike="noStrike">
                <a:solidFill>
                  <a:srgbClr val="000000"/>
                </a:solidFill>
                <a:latin typeface="Calibri"/>
              </a:rPr>
              <a:t> – Better, faster communication – email, videoconferencing</a:t>
            </a:r>
            <a:endParaRPr b="0"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st savings (email vs phone calls, physical travel), </a:t>
            </a:r>
            <a:endParaRPr b="0"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taff savings (e.g. networked helpdesk),</a:t>
            </a:r>
            <a:endParaRPr b="0"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quipment savings: printers, internet connections, internet cache, CD driv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rPr>
              <a:t>Effectiveness</a:t>
            </a:r>
            <a:r>
              <a:rPr b="0" lang="en-AU" sz="2800" spc="-1" strike="noStrike">
                <a:solidFill>
                  <a:srgbClr val="000000"/>
                </a:solidFill>
                <a:latin typeface="Calibri"/>
              </a:rPr>
              <a:t> – collaborative work is easier, access to resources is broader, group calenda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B0EE-DF53-4504-A1BD-8339C34D951C}"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Text Box 2"/>
          <p:cNvSpPr/>
          <p:nvPr/>
        </p:nvSpPr>
        <p:spPr>
          <a:xfrm>
            <a:off x="1476360" y="189000"/>
            <a:ext cx="6095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ahoma"/>
              </a:rPr>
              <a:t>Why network?</a:t>
            </a:r>
            <a:endParaRPr b="0" lang="en-US" sz="4000" spc="-1" strike="noStrike">
              <a:solidFill>
                <a:srgbClr val="000000"/>
              </a:solidFill>
              <a:latin typeface="Arial"/>
            </a:endParaRPr>
          </a:p>
        </p:txBody>
      </p:sp>
      <p:sp>
        <p:nvSpPr>
          <p:cNvPr id="54" name="Text Box 3"/>
          <p:cNvSpPr/>
          <p:nvPr/>
        </p:nvSpPr>
        <p:spPr>
          <a:xfrm>
            <a:off x="179280" y="907920"/>
            <a:ext cx="8607600" cy="48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rPr>
              <a:t>Management</a:t>
            </a:r>
            <a:r>
              <a:rPr b="0" lang="en-AU" sz="2800" spc="-1" strike="noStrike">
                <a:solidFill>
                  <a:srgbClr val="0000ff"/>
                </a:solidFill>
                <a:latin typeface="Calibri"/>
              </a:rPr>
              <a:t> </a:t>
            </a:r>
            <a:r>
              <a:rPr b="0" lang="en-AU" sz="2800" spc="-1" strike="noStrike">
                <a:solidFill>
                  <a:srgbClr val="000000"/>
                </a:solidFill>
                <a:latin typeface="Calibri"/>
              </a:rPr>
              <a:t>- control over internet &amp; printing, staff monitor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rPr>
              <a:t>Company</a:t>
            </a:r>
            <a:r>
              <a:rPr b="0" lang="en-AU" sz="2800" spc="-1" strike="noStrike">
                <a:solidFill>
                  <a:srgbClr val="000000"/>
                </a:solidFill>
                <a:latin typeface="Calibri"/>
              </a:rPr>
              <a:t> </a:t>
            </a:r>
            <a:r>
              <a:rPr b="0" lang="en-AU" sz="2800" spc="-1" strike="noStrike">
                <a:solidFill>
                  <a:srgbClr val="7030a0"/>
                </a:solidFill>
                <a:latin typeface="Calibri"/>
              </a:rPr>
              <a:t>image</a:t>
            </a:r>
            <a:r>
              <a:rPr b="0" lang="en-AU" sz="2800" spc="-1" strike="noStrike">
                <a:solidFill>
                  <a:srgbClr val="000000"/>
                </a:solidFill>
                <a:latin typeface="Calibri"/>
              </a:rPr>
              <a:t> </a:t>
            </a:r>
            <a:r>
              <a:rPr b="0" lang="en-AU" sz="2800" spc="-1" strike="noStrike">
                <a:solidFill>
                  <a:srgbClr val="7030a0"/>
                </a:solidFill>
                <a:latin typeface="Calibri"/>
              </a:rPr>
              <a:t>and</a:t>
            </a:r>
            <a:r>
              <a:rPr b="0" lang="en-AU" sz="2800" spc="-1" strike="noStrike">
                <a:solidFill>
                  <a:srgbClr val="0000ff"/>
                </a:solidFill>
                <a:latin typeface="Calibri"/>
              </a:rPr>
              <a:t> “</a:t>
            </a:r>
            <a:r>
              <a:rPr b="0" lang="en-AU" sz="2800" spc="-1" strike="noStrike">
                <a:solidFill>
                  <a:srgbClr val="7030a0"/>
                </a:solidFill>
                <a:latin typeface="Calibri"/>
              </a:rPr>
              <a:t>reach</a:t>
            </a:r>
            <a:r>
              <a:rPr b="0" lang="en-AU" sz="2800" spc="-1" strike="noStrike">
                <a:solidFill>
                  <a:srgbClr val="0000ff"/>
                </a:solidFill>
                <a:latin typeface="Calibri"/>
              </a:rPr>
              <a:t>”</a:t>
            </a:r>
            <a:r>
              <a:rPr b="0" lang="en-AU" sz="2800" spc="-1" strike="noStrike">
                <a:solidFill>
                  <a:srgbClr val="000000"/>
                </a:solidFill>
                <a:latin typeface="Calibri"/>
              </a:rPr>
              <a:t> – internet visibility makes any company international and accessible and “with i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rPr>
              <a:t>Customer</a:t>
            </a:r>
            <a:r>
              <a:rPr b="0" lang="en-AU" sz="2800" spc="-1" strike="noStrike">
                <a:solidFill>
                  <a:srgbClr val="0000ff"/>
                </a:solidFill>
                <a:latin typeface="Calibri"/>
              </a:rPr>
              <a:t> </a:t>
            </a:r>
            <a:r>
              <a:rPr b="0" lang="en-AU" sz="2800" spc="-1" strike="noStrike">
                <a:solidFill>
                  <a:srgbClr val="7030a0"/>
                </a:solidFill>
                <a:latin typeface="Calibri"/>
              </a:rPr>
              <a:t>service</a:t>
            </a:r>
            <a:r>
              <a:rPr b="0" lang="en-AU" sz="2800" spc="-1" strike="noStrike">
                <a:solidFill>
                  <a:srgbClr val="000000"/>
                </a:solidFill>
                <a:latin typeface="Calibri"/>
              </a:rPr>
              <a:t> – many more ways to help customers (e.g. FAQ, downloads, online advice, email contac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MIND MAP – OTHER REASONS AS TO WHY CREATE A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mote Service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Remote services for customers, such as ordering through the Internet can reduce costs for an organisation and improve the accuracy of their data process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utomatic teller machines (ATMs) are an example of a remote service provided by banks. When a person enters instructions on an ATM, they are interacting directly with the bank’s main computer. The ATM is a remote part of the bank’s information system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Users connected to a network can move money from one bank account to another by means of electronic funds transfer (EFT) and an appropriate transmission medi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WHAT ARE SOME EXAMPLES OF REMOTE SERVIC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Data and information sharing in organisations</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A significant benefit provided by networks is the ability to share data and informa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Files stored on any computer on a network can be accessed by any other computer on the network, provided access rights have been grant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The network allows data to be shared between users and enables users to retrieve information from more than one sourc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Calibri"/>
              </a:rPr>
              <a:t>HOW COULD DATA AND INFORMATION BE SHARED WITHIN THE SCHOOL ENVIRONMEN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Facilitating communica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 network allows people to communicate easily within an organisation or with people outside the organisation through the use of the Internet. Email, chat rooms, messaging, telephony and videoconferencing are examples of communications available through a network.</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HOW COULD A NETWORK ALLOW PEOPLE COMMUNICATE EASIER USING EMAIL INSTEAD OF AUSTRALIA POS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HOMEWORK</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1. Define the term </a:t>
            </a:r>
            <a:r>
              <a:rPr b="0" i="1" lang="en-AU" sz="2200" spc="-1" strike="noStrike">
                <a:solidFill>
                  <a:srgbClr val="000000"/>
                </a:solidFill>
                <a:latin typeface="Calibri"/>
              </a:rPr>
              <a:t>networ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2. What does groupware on a network allow people to d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3. What are the four main advantages in using a networ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4. What compelling reason would an organisation use to justify resource sharing?</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5. What resources, other than printing, can be shared on a networ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6. Describe the benefit to an organisation in providing a remote ordering service for customers over the Interne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7. How does file sharing on a network avoid problems associated with data duplic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RESEARCH ON WHAT ARE THE DIFFERENT TYPES OF NETWORK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1:03:31Z</dcterms:created>
  <dc:creator>Education</dc:creator>
  <dc:description/>
  <dc:language>en-US</dc:language>
  <cp:lastModifiedBy>Education</cp:lastModifiedBy>
  <dcterms:modified xsi:type="dcterms:W3CDTF">2011-02-09T23:15:06Z</dcterms:modified>
  <cp:revision>13</cp:revision>
  <dc:subject/>
  <dc:title>NETWORKS</dc:title>
</cp:coreProperties>
</file>